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09B-C888-4B9C-B5D0-00249D6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F83-783E-417C-AD6B-E25E08A3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439-E731-42B3-BF57-F51F2F72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FA0-3045-46E2-9B31-25B37791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14A61-FD10-4D57-902F-20AEB074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BA4C-1FD0-4DEF-A52B-C21E77A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92A9C-8F46-4FB4-8CC5-B16CDBBA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831E-9D10-4661-9154-07B70B0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C49A8-CC75-49DF-B1FC-C40694C6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1D960-3CF6-4EC0-90D6-5D085C2B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5FCBE-9079-482F-96DB-A44BB7B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92B-6830-40F0-A381-0BFB902B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F886-E23E-48A6-8793-34733A4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25A8-94D9-4B2E-B2A9-958124D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2836B-5E52-45FD-8EF9-5FEB213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E168-577C-434B-BBFB-5018402A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DF4A-505D-4F92-8419-1153B14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BBB-3419-4C05-9040-8FF67FA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820-E411-4F01-B4F6-355D6E48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936-F256-41FD-8A3A-9512128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5FE-62A2-4D4F-88E9-7AE65A2A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D1C-AFB0-4FEB-B7C6-9F365BE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A05-AE99-4ACA-8458-CA2A623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B3B-8206-43FC-AC63-493A4BC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359B-55FC-4234-9023-9FE1F2340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A90-A2E2-404B-B4D4-39B11F11AD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Administrator</cp:lastModifiedBy>
  <dcterms:modified xsi:type="dcterms:W3CDTF">2011-06-06T06:45:16Z</dcterms:modified>
  <cp:revision>21</cp:revision>
  <dc:subject/>
  <dc:title>Folie 1</dc:title>
</cp:coreProperties>
</file>